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EEF-5E88-4204-9758-A2797FC8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24D-0F48-41D4-A32A-BB6BE64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E0E-F54B-461B-B694-51A57FA3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948-BA7B-4949-AAD3-837109C5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EBEB-2DA5-457F-A831-4FD37851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EE8C-85F7-4A39-ABFC-980D3536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25F0-E956-456C-B211-E2DF0D01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22C7-56E9-4B8D-BBF1-9AB00672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2139-E8CF-4334-BD96-F8ADA15A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7E0-6FB4-4A69-B36E-B6A27D53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6FC-442E-4398-9BCB-E2894635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5AD-A6EA-4905-943B-543A3811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E8D9-2EF7-4F56-A931-DCF2E786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1E53-5B61-4515-B572-16C5371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8810-F71A-4873-A6ED-A5ABC6D6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1261-352C-4C3B-ABBA-0B1C600E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7C7E-F3C4-4038-AB47-F9750818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947-8A0E-4E4A-B7A2-B80A5246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587-B075-491F-A5AF-E9D99F28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D57-ED77-4CEE-888A-83B8D42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5C9-D341-492D-9F30-AF35AF0D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0BE-0246-4D45-87A2-43D1126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FB1-E9C7-4305-BB18-6BBC3D0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866-23BC-4295-A490-E4B9A8A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77BE-C996-4538-B76A-94876314B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4139-C9B4-4A60-B707-73545A1E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9.xml"/><Relationship Id="rId10" Type="http://schemas.openxmlformats.org/officeDocument/2006/relationships/slide" Target="slide29.xml"/><Relationship Id="rId11" Type="http://schemas.openxmlformats.org/officeDocument/2006/relationships/slide" Target="slide30.xml"/><Relationship Id="rId12" Type="http://schemas.openxmlformats.org/officeDocument/2006/relationships/slide" Target="slide31.xml"/><Relationship Id="rId13" Type="http://schemas.openxmlformats.org/officeDocument/2006/relationships/slide" Target="slide32.xml"/><Relationship Id="rId14" Type="http://schemas.openxmlformats.org/officeDocument/2006/relationships/slide" Target="slide33.xml"/><Relationship Id="rId15" Type="http://schemas.openxmlformats.org/officeDocument/2006/relationships/slide" Target="slide34.xml"/><Relationship Id="rId16" Type="http://schemas.openxmlformats.org/officeDocument/2006/relationships/slide" Target="slide35.xml"/><Relationship Id="rId17" Type="http://schemas.openxmlformats.org/officeDocument/2006/relationships/slide" Target="slide36.xml"/><Relationship Id="rId1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8.xml"/><Relationship Id="rId10" Type="http://schemas.openxmlformats.org/officeDocument/2006/relationships/slide" Target="slide8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9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8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BLE OF CONT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Introduction to this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To 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To persu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Aud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How to determine your aud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Style and 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8" action="ppaction://hlinksldjump"/>
              </a:rPr>
              <a:t>C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9" action="ppaction://hlinksldjump"/>
              </a:rPr>
              <a:t>Co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0" action="ppaction://hlinksldjump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1" action="ppaction://hlinksldjump"/>
              </a:rPr>
              <a:t>Chron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2" action="ppaction://hlinksldjump"/>
              </a:rPr>
              <a:t>De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3" action="ppaction://hlinksldjump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4" action="ppaction://hlinksldjump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5" action="ppaction://hlinksldjump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6" action="ppaction://hlinksldjump"/>
              </a:rPr>
              <a:t>Web 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17" action="ppaction://hlinksldjump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void ambiguous pronoun referenc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terminal patients enjoy the warm days while they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the warm days last, our terminal patients enjoy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void ambiguous modifier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ress the red button in an emerg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emergency, press the red button 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reak up long noun string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plus production energy capacity price fluctuation control policies seem doomed to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licies for controlling price fluctuations caused by surplus production in energy capacity seem doomed to fail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fer the active vo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voice sentences clearly state who the actor is and what the actor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was discovered by the scient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was discov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ientist discovered the form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n to use the passive vo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ctor is commonly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ctor is ir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elling what you did in a report or other document (excluding introduction and conclusio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“The two wires were connected” not “I connected the two wir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ill say “The second method produced better results” not “Better results were produced by the second metho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void nomina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inalizations are verbs that are turned into nouns.  Ex. redu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system lead to a reduction in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system reduced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Maintain parallelism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ism is putting related ideas into the same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gsten steel alloys are tough, ductile, and have a great deal of str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gsten steel alloys are tough, ductile, and st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Use transition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ransitions words to combine thoughts  between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words make the flow smoother and the transition less abrup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71240" y="3733920"/>
            <a:ext cx="2590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373392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841920"/>
            <a:ext cx="419112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Use intelligent repetit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use different words to represent the same id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deterioration is a major problem today.  Many causes of such degradation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deterioration is a major problem today.  Many causes of such deterioration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A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Eliminate redunda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Write positiv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Paragraph of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Use reasonable sentence 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Limit “to be” ver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Delete meaningless w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elete doubled w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8" action="ppaction://hlinksldjump"/>
              </a:rPr>
              <a:t>Delete redundant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0066"/>
                </a:solidFill>
                <a:uFillTx/>
                <a:latin typeface="Times New Roman"/>
                <a:hlinkClick r:id="rId9" action="ppaction://hlinksldjump"/>
              </a:rPr>
              <a:t>Reduce phrases to wor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0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roduction to this handou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andout in no way substitutes taking a technical writing course, but is intended to communicate some of the concepts taught in such a class to those who have not had the opportunity of taking one.  This handout is a summary of some of the most important information found in most technical writing classes and texts.  This is intended to be a reference to help you develop your writing style to a professional level.  It is recommended that this handout be used as a starting point in making this transition.  For more information on any of the topics discussed, please consult the references provided at the end of the hand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liminate redundanc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ords that can be inferred from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352680"/>
            <a:ext cx="37339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s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352680"/>
            <a:ext cx="37339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th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60958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rite positivel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usually takes more words to convey the same idea in a negative form than in a positive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positivel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write negativel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graph ofte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 often to break up dens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rule of thumb is 60-100 words for an averag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Use reasonable sentence length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entences so that readers don’t have to remember too much information to understand th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entences average 20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entence is exceeding 40 words, try to find a way to break it up into smaller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imit “to be” verb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use of conjugations of the verb “to b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second method that w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d the second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lete meaningless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words that do not add any meaning to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cture was kind of blur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ns the sam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cture was blur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lete doubled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use word pairs that mean the same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71800"/>
            <a:ext cx="38098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nd fore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and funda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es and des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048120"/>
            <a:ext cx="38102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nd 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y and complet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nd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s and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715000"/>
            <a:ext cx="7620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lete redundant categori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words imply their catego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restate the category after suc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352680"/>
            <a:ext cx="36576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in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i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in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429000"/>
            <a:ext cx="38862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 in t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ny in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oth in tex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 in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6095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Reduce phrases to word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hrases can be expressed in fewer words or even in a singl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the fact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much greater rat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pite the fact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eat deal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NC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surest ways to confuse a reader is to have a poor organizational sche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organizational method based on the document being written and the information going int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e most common method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hron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De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n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general purposes for technical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To in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ports, instructions, descrip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the audience with factual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To persu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oposals, recommend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vince the audience to draw the desired conclusions from the provid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ronologic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ronological scheme organizes information based on the time of occur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ological organization is usually used in describing processes or giv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RGAN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du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uctive organization is also known as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larger ideas and break them down into smalle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RGAN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u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tive organization is also known as class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smaller ideas and build the larger ideas out of these smaller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RGAN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vailable re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resources are available for more information on any of the topics covered in this document, or just for general information on technical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ources are organized into the following catego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o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y, R., &amp; Blake, G. (1982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writing: structre, standards, and sty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w York: McGraw-Hill.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kelstein, L, Jr. (2000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cket book of technical writing for engineers and scient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w York: McGraw-Hi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nes, D. (2000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technical communicator’s handbo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edhem Heights, Ma: Allyn and Bac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arsal, T. (2001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elements of technical wri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Needham Heights, MA: Allyn and Bac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nalstyne, J., &amp; Tritt, M. (2002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fessional and technical writing strateg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Upper Saddel River, NJ: Prentice H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iams, J. (1990)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tyle: toward clarity and gr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Chicago, IL: Scott, Foresman, and Compan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AILABLE RE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b si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per, E. &amp; Neyhart, 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due onlin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labhttp://owl.english.purdue.edu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Writing Center at Rensselae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ttp://www.rpi.edu/dept/llc/writecenter/we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Murrey, 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ine technical writing: online textbook: http://www.io.com/~hcexres/tcm1603/acchtml/acctoc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nk, W., Jr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he elements of sty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www.bartleby.com/141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AILABLE RE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ell, Lee. LL&amp;C department, Sage 4302, odellc@rpi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ts, Jason. LL&amp;C department, Sage 2510, swartj@rpi.e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ton, Angela, LL&amp;C department, eatona@rpi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-Davidson, William, Lee. LL&amp;C department, Sage 4402, hartdw@rpi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AILABLE RE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riting Center at Rensselaer. Sage 4508. writingcenter@rpi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writing help. AOL Instant Messenger screen name: instant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and professional communications, WRIT-4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RESOURCES  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infor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 as concis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ideas in enough detail to make it understandable to your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o new” method – For each new piece of information tie it in to knowledge the audience already 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persua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remain, or appear to remain, as objectiv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l to logic, not e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evidence for all arg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the question “Why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important?”, “Why is this beneficial?”, “Why is this a problem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udi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you have a purpose in writing, your audience has a purpose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goal is to ensure that the ideas you have when writing are the same ideas that your audience has whe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o your audience is so you can focus in on as small a group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oader the audience, the larger the chance that the same information will be interpreted in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w to determine your audi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is by considering the following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area and level of edu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knowledge of your subj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ir demographic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relationship or status that exists between your audience and your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UDI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yle and di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fundamentals to increasing the probability that your audience will interpret your work as you int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conc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r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Avoid ambiguous pronoun 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Avoid ambiguous modifi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reak up long noun str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Prefer the active 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hen to use the passive 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Avoid nominal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Maintain paralle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8" action="ppaction://hlinksldjump"/>
              </a:rPr>
              <a:t>Use transitio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9" action="ppaction://hlinksldjump"/>
              </a:rPr>
              <a:t>Use intelligent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0" action="ppaction://hlinksldjump"/>
              </a:rPr>
              <a:t>STYLE &amp; DI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11" action="ppaction://hlinksldjump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0:27:36Z</dcterms:created>
  <dc:creator>George Campbell</dc:creator>
  <dc:description/>
  <dc:language>en-US</dc:language>
  <cp:lastModifiedBy>Richard J. Radke</cp:lastModifiedBy>
  <dcterms:modified xsi:type="dcterms:W3CDTF">2003-01-06T19:48:38Z</dcterms:modified>
  <cp:revision>121</cp:revision>
  <dc:subject/>
  <dc:title>TABLE OF CONTENTS</dc:title>
</cp:coreProperties>
</file>